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183-AA19-42D4-9C4C-4699CC19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2A9-F8EC-497B-9CF7-CBEB1444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513-CDC2-493A-A675-96E5DC89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01E-935D-469B-856D-C85E769E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B966-5777-494B-A9C5-8A1E2DBB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2DA5-B442-4917-B7FA-7C12E785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3585-1B13-4864-8B3D-3F9C4C51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18DC-1149-44D0-BED7-A8701F5B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E73F-575D-4F16-8A89-9D198D49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E40C-4B56-475D-8EB6-9C061C66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5076-B4E2-411E-BAD6-AE1F42A1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343-82CF-418D-BF37-93321953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F696-FFCD-4005-B9FE-D1DEE63B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804B-EFF3-4C04-A17A-5024C896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A016-C4D4-46C7-92D2-7AE63ECB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BCAE-8FA9-4EA0-8BAD-0CDBCB2E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2514-AB2D-4908-9719-35B70AF4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A44A-5DDD-4D3A-A7AE-99D69C99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9290-16F7-4553-8D15-14D11248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CD20-08FF-43F8-AAD7-C7166A41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3B9E-C021-4A24-849F-13F716FD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A67-5571-41BF-9C1A-1B994E25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E893-24D1-4DEC-ABBA-96805302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2B4-AA6F-4F31-8F17-46F2218A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E983-5DAC-4B16-9FCC-61B171CC4D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28BA-ADB9-4190-8E4F-F94B06FDD5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Chiller"/>
              </a:rPr>
              <a:t>TP-CASTT for ‘ghost child’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Becka O’Neil and McKayla Bea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Chiller"/>
              </a:rPr>
              <a:t>T- Title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iller"/>
              </a:rPr>
              <a:t>We infer that the poem ‘ghost child’ would be about a child who has died from AIDS or is dying. The child may be unbor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Chiller"/>
              </a:rPr>
              <a:t>P-Paraphrase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t’s about a child, screaming for mercy, wondering why God has forsaken her. In ‘ghost child’, the child wants to know if the red ribbon of AIDS can be lifted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Chiller"/>
              </a:rPr>
              <a:t>C-Connotation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Repetition- The speaker repeats “am I still your child?” and “shout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Simile- The speaker uses the simile “to spring once again like rivers in summer.” Which we interpret to mean to feel al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Stanzas- The stanzas end in ways that add definition and feeling to the po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Tone- The tone is somber to the point of seeming creep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Symbolism- Instead of saying AIDS, they mentioned the red ribbon, which is the symbol for AID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Chiller"/>
              </a:rPr>
              <a:t>A- Attitude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The attitude of the poem and the speaker is desperate and depresses the read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We think that the poet wants to point out the innocent that are hurting because of AID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Things like ‘Everyday I think it is the last’, ‘I shout; shout; and scream for my blood’ and ‘God! God! Why forsake me; am I still your child?’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Chiller"/>
              </a:rPr>
              <a:t>S-Shift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We think that it shifts from saddening to desperation and anger, finally concluding with a feeling of why me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Chiller"/>
              </a:rPr>
              <a:t>T-Title (again)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he title ‘ghost child’ now means something almost completely different to u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t now means to us that the speaker was once a ghost child, living with God before this life. Now, She feels forsaken by her Heavenly Father, dreading being a ‘ghost child’ once again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Chiller"/>
              </a:rPr>
              <a:t>T-Theme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We feel that the theme of the poem was to bring awareness to all the children dying of AIDS, dying from their parents mistakes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t shows the desperation, anger and agony each victim feels inside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6:35:06Z</dcterms:created>
  <dc:creator>Classroom/Lab</dc:creator>
  <dc:description/>
  <dc:language>en-US</dc:language>
  <cp:lastModifiedBy>Classroom/Lab</cp:lastModifiedBy>
  <dcterms:modified xsi:type="dcterms:W3CDTF">2010-11-16T17:13:35Z</dcterms:modified>
  <cp:revision>4</cp:revision>
  <dc:subject/>
  <dc:title>TP-CASTT for ‘ghost child’ </dc:title>
</cp:coreProperties>
</file>